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AF1-7639-4426-B67D-93DEC24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402-5E00-4DC1-BAAB-7739198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AB7-356C-4036-BA86-B5800C0E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252-33A8-4F23-A3A4-5FAE76A0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2E9C-129D-4944-B62C-47DDF00E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2917-D245-4E38-82FA-267CA20C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98B0-45C7-4ED5-AF74-B3E8757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400B-F5FE-4B3D-A331-6220D94D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1221-5EDA-47F3-ACD6-1DA53077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34E2-C1F5-4375-B50F-37A793A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B432-D911-4B16-890B-7A0140E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00E-50D0-42FB-8781-58CF8BB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362D-E071-4C50-9F53-DA8EB58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E76D-B3EE-4DEE-86D6-2542AE86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1634-F461-4FB2-B63C-9F16EEC9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9870-B614-4384-BB4C-B44E4815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9745-70B1-499C-9541-121DA53D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1AB-2227-49CD-8994-6857379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218-474D-440D-BAC2-CF3D7702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1AC-1A0B-4C8B-B166-26A65D48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A08-BD32-49C4-80D4-763D6D72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636-36E6-4A86-9BB5-D45557DB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84C-297E-4768-A959-BBE4C0B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691-DA70-41D6-8AC8-88E7DA7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CED-045D-4853-8EA4-2E510266A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371600" cy="12733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8"/>
          <p:cNvGrpSpPr/>
          <p:nvPr/>
        </p:nvGrpSpPr>
        <p:grpSpPr>
          <a:xfrm>
            <a:off x="457200" y="1812600"/>
            <a:ext cx="8511840" cy="91800"/>
            <a:chOff x="457200" y="1812600"/>
            <a:chExt cx="8511840" cy="91800"/>
          </a:xfrm>
        </p:grpSpPr>
        <p:sp>
          <p:nvSpPr>
            <p:cNvPr id="7" name="Rectangle 9"/>
            <p:cNvSpPr/>
            <p:nvPr/>
          </p:nvSpPr>
          <p:spPr>
            <a:xfrm flipV="1">
              <a:off x="45720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>
              <a:off x="2198520" y="181224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875040" y="181224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>
              <a:off x="5551200" y="181224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>
              <a:off x="722772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457200" y="1828440"/>
            <a:ext cx="8511840" cy="91800"/>
            <a:chOff x="457200" y="1828440"/>
            <a:chExt cx="8511840" cy="91800"/>
          </a:xfrm>
        </p:grpSpPr>
        <p:sp>
          <p:nvSpPr>
            <p:cNvPr id="13" name="Rectangle 15"/>
            <p:cNvSpPr/>
            <p:nvPr/>
          </p:nvSpPr>
          <p:spPr>
            <a:xfrm flipV="1">
              <a:off x="45720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>
              <a:off x="2198520" y="182808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>
              <a:off x="3875040" y="182808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>
              <a:off x="5551200" y="182808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flipV="1">
              <a:off x="722772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981080" cy="18381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316080" y="3260520"/>
            <a:ext cx="8511840" cy="91800"/>
            <a:chOff x="316080" y="3260520"/>
            <a:chExt cx="8511840" cy="91800"/>
          </a:xfrm>
        </p:grpSpPr>
        <p:sp>
          <p:nvSpPr>
            <p:cNvPr id="56" name="Rectangle 9"/>
            <p:cNvSpPr/>
            <p:nvPr/>
          </p:nvSpPr>
          <p:spPr>
            <a:xfrm flipV="1">
              <a:off x="31608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2057400" y="326016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733920" y="326016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flipV="1">
              <a:off x="5410080" y="326016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 flipV="1">
              <a:off x="708660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EA4-76A5-4C1A-AE6F-9E216F4FBD4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914400"/>
            <a:ext cx="6400800" cy="22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urnt Chimney Elementary School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D-E-T-E-R-M”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PLAN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Recognize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(What are the barriers we may face?)</a:t>
            </a:r>
            <a:endParaRPr b="0" lang="en-US" sz="3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240" y="2752560"/>
            <a:ext cx="7010280" cy="27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Parents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Students not understanding their disability 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Language of IEP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dividual child’s disability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mportance-students and parents not seeing how important it is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8" name="Picture 4" descr="j0286034"/>
          <p:cNvPicPr/>
          <p:nvPr/>
        </p:nvPicPr>
        <p:blipFill>
          <a:blip r:embed="rId1"/>
          <a:stretch/>
        </p:blipFill>
        <p:spPr>
          <a:xfrm>
            <a:off x="457200" y="2133720"/>
            <a:ext cx="11430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ke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(What is our timeline for our plan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29718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Oct. 13 - Met as committee for involvement in pilot program/set up goal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Oct. 16 - Complete teacher/parent/student surveys for all 5</a:t>
            </a:r>
            <a:r>
              <a:rPr b="0" lang="en-US" sz="16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graders and SWD at 3</a:t>
            </a:r>
            <a:r>
              <a:rPr b="0" lang="en-US" sz="1600" spc="-1" strike="noStrike" baseline="30000">
                <a:solidFill>
                  <a:srgbClr val="0000cc"/>
                </a:solidFill>
                <a:latin typeface="Comic Sans MS"/>
              </a:rPr>
              <a:t>rd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and 4</a:t>
            </a:r>
            <a:r>
              <a:rPr b="0" lang="en-US" sz="16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Oct. 23 - Complete parent survey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Nov. 28 - Parent to Parent meeting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Dec. 5 - Meet as a committee to review survey data, set up action plan, go over resource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Jan. 3 or 4 - Plan sessions and interview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nd of Jan Beg. Of Feb. - Start working with students to increase self-determination and begin to get them ready for IEP proces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Feb 13 - Committee meeting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March - Student/parent interview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nd of March - Begin IEP meeting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31" name="Picture 4" descr="MCj02409950000[1]"/>
          <p:cNvPicPr/>
          <p:nvPr/>
        </p:nvPicPr>
        <p:blipFill>
          <a:blip r:embed="rId1"/>
          <a:stretch/>
        </p:blipFill>
        <p:spPr>
          <a:xfrm>
            <a:off x="457200" y="2133720"/>
            <a:ext cx="1144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50% of 5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s and 30% of 4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s at Burnt Chimney Elementary School will participate in their IEP meeting as measured by the IEP Participation Continuum Checklist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6" name="Picture 6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1  5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 and 1 4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 at Burnt Chimney Elementary School will create a power point from a template for their IEP meeting as measured by the use of the power points at their IEP meetings.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9" name="Picture 4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all 3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, 4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, and 5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 students with special needs will create a notebook of personal information to be used to develop their IEPs as measured by the finished product.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2" name="Picture 4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a team of special education teachers will create brochures and posters to be used in presentations with both students parents and teachers as measured by finished products.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5" name="Picture 4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valuat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do we already know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20574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omic Sans MS"/>
              </a:rPr>
              <a:t>Students…</a:t>
            </a:r>
            <a:endParaRPr b="0" lang="en-US" sz="31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Don’t know what an IEP i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Don’t know their likes and interest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ot familiar with their own disability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oor decision maker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Get along with their peer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nows hard work will help them get ahead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Believe their teachers listen to them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Aware of their need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8" name="Picture 4" descr="MCj00787170000[1]"/>
          <p:cNvPicPr/>
          <p:nvPr/>
        </p:nvPicPr>
        <p:blipFill>
          <a:blip r:embed="rId1"/>
          <a:stretch/>
        </p:blipFill>
        <p:spPr>
          <a:xfrm>
            <a:off x="6934320" y="1828800"/>
            <a:ext cx="726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(How do we measure our goal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244320"/>
            <a:ext cx="769608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Use the IEP Participation Continuum Checklis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209160" indent="-209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Use of completed power points, notebooks, brochures and poster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1" name="Picture 4" descr="MCj00788260000[1]"/>
          <p:cNvPicPr/>
          <p:nvPr/>
        </p:nvPicPr>
        <p:blipFill>
          <a:blip r:embed="rId1"/>
          <a:stretch/>
        </p:blipFill>
        <p:spPr>
          <a:xfrm>
            <a:off x="3276720" y="1600200"/>
            <a:ext cx="25747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stablish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action plan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82600" y="2017800"/>
          <a:ext cx="7772400" cy="50576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634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responsib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starting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urvey all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students parents, and teach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urvey SWD at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and 4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and their parents and teach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ulty at Burnt Chimney Element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 par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-to-Parent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/T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aculty at Burnt Chimn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what information to share with student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. Staff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student meetings and intervie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. Staff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.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info. with students and model behav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student meet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. Ed.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her inf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 stud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. ed. staff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ud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IEP particip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 to IEP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. Ed.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stablish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action plan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62182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4780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responsib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power point templ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to determine what needs to be included in templ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tudents creating power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after school to create the power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with technology teacher to aide in completing the power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echnology teac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notebooks for all 3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4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5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rs with special nee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graduate students to put notebooks toget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collecting data for notebo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g data into noteboo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on “My Move Up” section with middle school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TAC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t Chimney and Ben Franklin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6:33:37Z</dcterms:created>
  <dc:creator>Radford University</dc:creator>
  <dc:description/>
  <dc:language>en-US</dc:language>
  <cp:lastModifiedBy>owner</cp:lastModifiedBy>
  <dcterms:modified xsi:type="dcterms:W3CDTF">2013-01-16T18:19:04Z</dcterms:modified>
  <cp:revision>12</cp:revision>
  <dc:subject/>
  <dc:title>Determine (What is our goal?)</dc:title>
</cp:coreProperties>
</file>